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596-9CD3-414C-AF0C-E6EC7AC1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99E-EC1C-4715-BB9E-44A55836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A2E-BB27-456D-8410-0B4D2875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D76-20A7-4432-A1AC-94AC93C0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249-17C1-413A-8A7E-F4706B91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C4B-87D8-4238-91BA-3EC6D261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5D29-9290-4F20-B3A9-D46855BA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188-5841-4394-89BE-C1531E2D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EA7-CEEF-4181-AF35-B571BBB6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6F4-C690-4857-BFFE-CEE04E87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083-2820-4A92-A191-A0C9755F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420-00C5-4181-BE9D-EEE0741A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59B9-A992-4F0C-A2A3-B7869654F29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Georgian_Lane_Dining_Room_Table_And_Chair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380880" y="594360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Las Comidas De Elizabeth Glea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671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4"/>
          <p:cNvSpPr/>
          <p:nvPr/>
        </p:nvSpPr>
        <p:spPr>
          <a:xfrm>
            <a:off x="711360" y="495360"/>
            <a:ext cx="76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Para el desayuno me gusta com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6" descr="ContentSectionFileHandler"/>
          <p:cNvPicPr/>
          <p:nvPr/>
        </p:nvPicPr>
        <p:blipFill>
          <a:blip r:embed="rId2"/>
          <a:stretch/>
        </p:blipFill>
        <p:spPr>
          <a:xfrm>
            <a:off x="6858000" y="11430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7"/>
          <p:cNvSpPr/>
          <p:nvPr/>
        </p:nvSpPr>
        <p:spPr>
          <a:xfrm>
            <a:off x="6993720" y="327672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l pan to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9" descr="Waffles_with_Strawberries"/>
          <p:cNvPicPr/>
          <p:nvPr/>
        </p:nvPicPr>
        <p:blipFill>
          <a:blip r:embed="rId3"/>
          <a:stretch/>
        </p:blipFill>
        <p:spPr>
          <a:xfrm>
            <a:off x="3581280" y="114300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0"/>
          <p:cNvSpPr/>
          <p:nvPr/>
        </p:nvSpPr>
        <p:spPr>
          <a:xfrm>
            <a:off x="3683520" y="3251160"/>
            <a:ext cx="27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Los gofres con f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cinnamonroll1"/>
          <p:cNvPicPr/>
          <p:nvPr/>
        </p:nvPicPr>
        <p:blipFill>
          <a:blip r:embed="rId4"/>
          <a:stretch/>
        </p:blipFill>
        <p:spPr>
          <a:xfrm>
            <a:off x="457200" y="1143000"/>
            <a:ext cx="2666880" cy="2101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6"/>
          <p:cNvSpPr/>
          <p:nvPr/>
        </p:nvSpPr>
        <p:spPr>
          <a:xfrm>
            <a:off x="1676520" y="327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590760" y="329076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l pastel de c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9" descr="special-k-red-berries-cereal-detail-prod"/>
          <p:cNvPicPr/>
          <p:nvPr/>
        </p:nvPicPr>
        <p:blipFill>
          <a:blip r:embed="rId5"/>
          <a:stretch/>
        </p:blipFill>
        <p:spPr>
          <a:xfrm>
            <a:off x="6477120" y="3733920"/>
            <a:ext cx="2666880" cy="2133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0"/>
          <p:cNvSpPr/>
          <p:nvPr/>
        </p:nvSpPr>
        <p:spPr>
          <a:xfrm>
            <a:off x="6627240" y="584208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l cereal con f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2" descr="orange-juice-hair-conditioner"/>
          <p:cNvPicPr/>
          <p:nvPr/>
        </p:nvPicPr>
        <p:blipFill>
          <a:blip r:embed="rId6"/>
          <a:stretch/>
        </p:blipFill>
        <p:spPr>
          <a:xfrm>
            <a:off x="3809880" y="3733920"/>
            <a:ext cx="2000520" cy="2133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3"/>
          <p:cNvSpPr/>
          <p:nvPr/>
        </p:nvSpPr>
        <p:spPr>
          <a:xfrm>
            <a:off x="3576240" y="58420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l zumo de nar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3699720" y="577800"/>
            <a:ext cx="2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ush Scrip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660600" y="533520"/>
            <a:ext cx="79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ristina"/>
              </a:rPr>
              <a:t>Para el almuerzo me gusta com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7" descr=""/>
          <p:cNvPicPr/>
          <p:nvPr/>
        </p:nvPicPr>
        <p:blipFill>
          <a:blip r:embed="rId2"/>
          <a:stretch/>
        </p:blipFill>
        <p:spPr>
          <a:xfrm>
            <a:off x="0" y="1752480"/>
            <a:ext cx="2459160" cy="1836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3"/>
          <p:cNvSpPr/>
          <p:nvPr/>
        </p:nvSpPr>
        <p:spPr>
          <a:xfrm>
            <a:off x="-152280" y="3581280"/>
            <a:ext cx="27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Los macarrones con qu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"/>
          <p:cNvPicPr/>
          <p:nvPr/>
        </p:nvPicPr>
        <p:blipFill>
          <a:blip r:embed="rId3"/>
          <a:stretch/>
        </p:blipFill>
        <p:spPr>
          <a:xfrm>
            <a:off x="3265560" y="1787400"/>
            <a:ext cx="2739960" cy="182592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3906720" y="36241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"/>
          <p:cNvPicPr/>
          <p:nvPr/>
        </p:nvPicPr>
        <p:blipFill>
          <a:blip r:embed="rId4"/>
          <a:stretch/>
        </p:blipFill>
        <p:spPr>
          <a:xfrm>
            <a:off x="200160" y="4322880"/>
            <a:ext cx="2406600" cy="1601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6"/>
          <p:cNvSpPr/>
          <p:nvPr/>
        </p:nvSpPr>
        <p:spPr>
          <a:xfrm>
            <a:off x="253080" y="59119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ristina"/>
              </a:rPr>
              <a:t>Las papas fr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0" descr=""/>
          <p:cNvPicPr/>
          <p:nvPr/>
        </p:nvPicPr>
        <p:blipFill>
          <a:blip r:embed="rId5"/>
          <a:stretch/>
        </p:blipFill>
        <p:spPr>
          <a:xfrm>
            <a:off x="6553080" y="1787400"/>
            <a:ext cx="2049480" cy="1825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8"/>
          <p:cNvSpPr/>
          <p:nvPr/>
        </p:nvSpPr>
        <p:spPr>
          <a:xfrm>
            <a:off x="6629400" y="361332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2" descr=""/>
          <p:cNvPicPr/>
          <p:nvPr/>
        </p:nvPicPr>
        <p:blipFill>
          <a:blip r:embed="rId6"/>
          <a:stretch/>
        </p:blipFill>
        <p:spPr>
          <a:xfrm>
            <a:off x="3265560" y="4336920"/>
            <a:ext cx="2739960" cy="15876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9"/>
          <p:cNvSpPr/>
          <p:nvPr/>
        </p:nvSpPr>
        <p:spPr>
          <a:xfrm>
            <a:off x="3727800" y="59245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El bocad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"/>
          <p:cNvPicPr/>
          <p:nvPr/>
        </p:nvPicPr>
        <p:blipFill>
          <a:blip r:embed="rId7"/>
          <a:stretch/>
        </p:blipFill>
        <p:spPr>
          <a:xfrm>
            <a:off x="6242040" y="4322880"/>
            <a:ext cx="2394000" cy="1589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6776640" y="5924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350280" y="685800"/>
            <a:ext cx="863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Impact"/>
              </a:rPr>
              <a:t>Para la cena me gusta com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2133720" cy="1602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43000" y="289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54640" y="311796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276720" y="1523880"/>
            <a:ext cx="2124000" cy="1613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2680" y="311796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l t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400800" y="1523880"/>
            <a:ext cx="2057400" cy="1600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62360" y="3124080"/>
            <a:ext cx="37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Los espaguetis con sal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de to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57200" y="4038480"/>
            <a:ext cx="2057400" cy="187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6880" y="594360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l rollo de la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3505320" y="4038480"/>
            <a:ext cx="1752480" cy="1905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666240" y="59436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6248520" y="4038480"/>
            <a:ext cx="2305080" cy="1890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934320" y="5943600"/>
            <a:ext cx="10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l arr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7440" y="-144360"/>
            <a:ext cx="913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Script MT Bold"/>
              </a:rPr>
              <a:t>Para el postre me gusta com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1868400" cy="234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920" y="2892600"/>
            <a:ext cx="240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Un helado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vain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124080" y="685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476800" y="292248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La torta de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400800" y="685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750640" y="2928960"/>
            <a:ext cx="363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Las galleta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chispas de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304920" y="3733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240" y="5977080"/>
            <a:ext cx="21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El pastel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calab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3124080" y="3733920"/>
            <a:ext cx="2438640" cy="2265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380760" y="5977080"/>
            <a:ext cx="18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Las fru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6553080" y="38098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746400" y="609588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El ba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11:02Z</dcterms:created>
  <dc:creator>gleasoneli</dc:creator>
  <dc:description/>
  <dc:language>en-US</dc:language>
  <cp:lastModifiedBy>gleasoneli</cp:lastModifiedBy>
  <dcterms:modified xsi:type="dcterms:W3CDTF">2012-04-05T14:10:14Z</dcterms:modified>
  <cp:revision>14</cp:revision>
  <dc:subject/>
  <dc:title>Slide 1</dc:title>
</cp:coreProperties>
</file>